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wmf" ContentType="image/x-wmf"/>
  <Override PartName="/ppt/media/image9.png" ContentType="image/png"/>
  <Override PartName="/ppt/media/image17.wmf" ContentType="image/x-wmf"/>
  <Override PartName="/ppt/media/image11.png" ContentType="image/png"/>
  <Override PartName="/ppt/media/image7.jpeg" ContentType="image/jpeg"/>
  <Override PartName="/ppt/media/image18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20.wmf" ContentType="image/x-wmf"/>
  <Override PartName="/ppt/media/image10.png" ContentType="image/png"/>
  <Override PartName="/ppt/media/image6.jpeg" ContentType="image/jpe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5A13-2916-40EB-B1BD-F99F5A61A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B616-2831-4A6B-8985-B0A3DF44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D436A5-4DC6-4225-9C52-182B8D03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5B5972-E414-417E-8B02-08162FE1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3B1496-BCDF-49FC-8B8C-B8647699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90EF78-EA1F-4A0A-8F4B-96DBDA2F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096B41-942C-442B-9DDD-638653C7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5C5FB-FDF4-4DE8-9C7B-53BA5869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0BEC91-31D9-4FA5-92D1-35F3275D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0F8AD5-E10F-4BD8-BCE5-E43E09B20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977AE7-4D7C-4656-82F3-7B57633B5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E9B651-3DB4-4D0A-9E97-CAE7CCA1C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AB2A-B4B3-4D04-B2A7-C96D1247B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A063DE-B6F5-420E-981A-9D57ED9C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9DA1E0-266E-4477-9D01-A9641504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514325-302E-46C7-9EC1-2A25A022A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D8CAA8-60BA-4B46-9AC4-0FF9D0C1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3B923F-C9A7-43BF-8211-E47875A2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AD066F-947E-4E9E-AB6F-14522F74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1835C3-835B-4B05-B55A-2B22F6AE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6AB1FA-C2C2-4251-979C-1AA48C35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45CC81-D9DA-405F-92AF-A33246C5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1F430F-C668-4FE4-8B79-594A3CC6E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C4C0-2FDF-495C-8898-70F80E749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2809F1-50B5-4563-B41A-AE0E3D6D7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966E9-D6A3-428E-A43A-33D391B17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01A3BA-946E-445C-B901-A4DD1675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22E01-F385-46DB-B1D6-89DC407D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35785-0AC0-472D-9137-D15B3B88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013A3-EE70-4F6D-A8C0-AEB54E84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5D82E-5075-4990-9B2E-6F37CE95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826896-85E3-49C6-AFD1-5142EAC6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2D82F-E66D-417E-8865-86F3038C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3CBFB8-9367-4C36-B413-5404BC82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2D99-8723-4D8B-B31C-1D836595E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BF5589-3FCC-499E-AA2E-94941B42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E22652-3300-4AAE-93E3-2C4A7C8F1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8A7B4-429B-43B9-967B-C2CAFFBF9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47056F-7D5F-4319-9160-73FFE7B49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008ED7-85B9-4A33-A584-7FE6B462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5DB255-FC94-4159-95BB-9793D494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CC942D-F094-4B3F-8DAA-025F4FBD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ED2230-BE05-4CB7-ADC7-75C923E8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184A60-A6A3-4CD5-956D-A5878C52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471FF5-389C-4502-897C-923E6E9A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F8866-D4FA-43D6-BF8D-A3F24ADE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429B4B-9F8B-4FF7-94A8-47E8749B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F8F8F3-4DB8-4EE6-AE2C-A2767E76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D725CE-5F69-4415-8E66-0C3BABF2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A63471-5A55-4729-AA13-DF530CD8B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79AE47-1EF9-4908-BDE3-202D921AF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F33D-A1F5-494F-B76F-75AF3D78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6A7B-CF45-40D7-8B1E-D5384D41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8418-D7CA-4139-A26F-589BC444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B46C-67A0-4804-AB2E-47E620F6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75103-74FA-4EB8-B338-D2313221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A09F-08E7-4EC9-ACFA-23570D3B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44873-F768-45E7-B087-407CF069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B777-1E63-42F2-9D5F-988B723A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15BC9-492F-456A-B45B-CFDEF699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F2EA-91E8-431C-9FBC-B30C3D203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FB21-838D-4DA2-AE85-E1E0018D0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AB85F-73A7-4574-A6C2-454985BF7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5F649-50FC-469D-8DA7-B258FDD6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32532-FDC0-49D9-80A5-C4B20D95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11B83-E028-445C-B519-A4336532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C9567-EFC4-4ED7-B80C-6F45285E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C24A-551A-4555-9F64-DC0D795E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68549-7775-4434-9F0A-21D01867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29644-B1ED-446D-B10D-4711BED6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FE8CD-07AE-41E4-A3E0-D0F67060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56D31-62D2-47B2-89F9-4A645163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6C111-7B3E-44FC-B55F-29725DD4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CA369-2AE9-436D-AAEF-C08B26FFB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028F8-269E-45AF-B003-070BD30ED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52FC1-24BC-4F17-A2CA-A1711279E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AA25A-4B54-480A-A0C5-0E7540A4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0EA48-0356-40FA-8D74-A35BEA19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1637-8110-4703-9251-B528C346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C6C76-0079-4B09-B2FA-901B5FD6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B43B4-5B93-48D8-8F3C-DE1A4711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34809-A3B8-4600-B9A1-9ADE3577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FE7E3-CE90-438E-8E8B-8324EAC1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F1F81-970B-4F00-9116-33B6762D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D805F-57FB-437D-91AB-7369412F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1F881-217B-42A2-8D0C-F780BA8C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9AF1A-E8FD-4FB2-B594-CFD75C80C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C8798-E198-4A4C-86BE-D21ECB37E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FA137-F9C1-443A-A8E2-C5A16AD25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2AB4-396C-449A-ABE3-CEF3DE05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42034-A034-424A-BB22-9C2AA664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2A13F-ABEE-4A64-A96D-99E78690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1C2AF-0174-4342-90C1-D47A1234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C8141-54D8-4969-B6A3-EC3FFD07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A0807-AB30-4204-B1F1-3524E267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B3F84-D450-4D3A-9195-68ED7FF2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9886C-A4D2-441C-870D-9F51431A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F6FBC-B30C-4DC0-A7B0-A0FA525A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EF139-CE4A-4451-A23B-18C103B5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A8C31-7EF2-4071-A927-C471A46C9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7353-3BF2-4F30-B3BC-065AED57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6759E-809A-4D65-A665-E668434D6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E2D27-9564-4A9D-B1EC-4663AE7C2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467CF-AA9F-4FC3-84BA-DFE89C2F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F10D5-EF78-49AE-82A3-45C81BC4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9E9F8-61C8-49BD-9CF9-7468BBA8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B77EE-B4D2-4F63-BB1B-58656EB4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6F7D4-76AC-4DEF-AEA0-4FCBD1A9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B3367-5F4F-494C-BCFD-63836E1A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8568A-6986-45B7-BE90-C33B36FC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07D71-ABA3-4B82-B8AF-2C209544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9FC6-84FA-41CD-AA40-7802A812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6383F-5920-4389-986F-4DB526C9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5B7E4-955E-457F-9D62-60D702882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E911C-650C-4678-9F55-81FC76A51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498DC-8647-4B9E-B2A9-8A2706290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FEEFB-AE19-46E5-9ED9-EBEE7457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A250B-2FD8-41CA-9597-7257A577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BAB62-21C8-42DE-8BD3-EFE1F4D8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567E9-3599-4772-BEC6-06959C95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B461F-574E-4CF4-8E14-9749C1D4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1B7FA-D6EE-41F1-B8FF-CBE07CC1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5A58-0B70-4ACA-92EC-B0DC6CAB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73BC1-593E-43F2-919C-86FB43CD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437D7-70A0-4437-A666-AE3A3884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CC4C5-1EA8-4883-BC14-11FF5F90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D5C08-DDA6-484D-AE52-5C2F3FBCE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1C334-7F54-4DD3-9198-CE2E34DFF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01083-DBD3-45D8-9265-2EF875266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30487-93D7-499F-9209-BB8D38AC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881EB-572D-4D7F-8E7C-16C9622A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5A64B-40E5-4166-8822-041A8DBC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65399-DC35-45A1-91D4-15DCAE79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38DB-1BAF-4AB8-8BF7-B295EA8D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0B960-1BA9-46F2-9A5D-24AD0006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EE06A-D303-43D3-955B-277A9266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30494-7678-418F-84C0-0FA49C68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7953A-0D70-4511-B628-EB903B30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50B27-67AF-4EAB-8D12-C96B5A19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6155C-4729-40DA-B0CE-26A0DA5CA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52B42-CD90-4D22-825A-1F7F19282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B93600-D46E-42A7-9532-223798454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338347-A23E-4A84-B351-07ACB50D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040BB-BE0E-432D-BBCC-4CAD8250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2097-68E4-4CFA-BD1B-5DE6907F827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387" name="Slika 7" descr=""/>
          <p:cNvPicPr/>
          <p:nvPr/>
        </p:nvPicPr>
        <p:blipFill>
          <a:blip r:embed="rId4"/>
          <a:stretch/>
        </p:blipFill>
        <p:spPr>
          <a:xfrm>
            <a:off x="0" y="-23760"/>
            <a:ext cx="9144000" cy="71892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B053-C73A-4EAE-B50A-4A52C57C715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430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35F6-0643-4BCC-948E-6D34C2A63DE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473" name="Slika 7" descr=""/>
          <p:cNvPicPr/>
          <p:nvPr/>
        </p:nvPicPr>
        <p:blipFill>
          <a:blip r:embed="rId4"/>
          <a:stretch/>
        </p:blipFill>
        <p:spPr>
          <a:xfrm>
            <a:off x="0" y="-1440"/>
            <a:ext cx="9144000" cy="71892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EAFA-4A28-4138-88B4-EF91B505919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43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99F5-620A-49A1-84A3-7AB1892B8A8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86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434D-C5B4-4917-AAAB-96365690AE9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129" name="Slika 7" descr=""/>
          <p:cNvPicPr/>
          <p:nvPr/>
        </p:nvPicPr>
        <p:blipFill>
          <a:blip r:embed="rId4"/>
          <a:stretch/>
        </p:blipFill>
        <p:spPr>
          <a:xfrm>
            <a:off x="-144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C3B4-E827-4ED8-87A7-3FD2D7526C6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172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481D-E630-4BDF-ABA5-085D37D9E42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215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0C96-498D-48E2-B8AA-AC78D6FA641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258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A97D-3C4D-4064-8A31-8B724E4D7AB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301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E218-035E-4B4C-8AC5-BD447B4384B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344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AADA-430D-4448-8684-E5956C42CEF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c3324"/>
                </a:solidFill>
                <a:latin typeface="Arial"/>
                <a:ea typeface="Arial"/>
              </a:rPr>
              <a:t>Volumen</a:t>
            </a:r>
            <a:r>
              <a:rPr b="1" lang="en-US" sz="4400" spc="-1" strike="noStrike">
                <a:solidFill>
                  <a:srgbClr val="fc3324"/>
                </a:solidFill>
                <a:latin typeface="Arial"/>
                <a:ea typeface="Arial"/>
              </a:rPr>
              <a:t> tije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648320" y="571464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3324"/>
                </a:solidFill>
                <a:latin typeface="Arial"/>
                <a:ea typeface="Arial"/>
              </a:rPr>
              <a:t>Tijela i tv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4"/>
          <p:cNvSpPr/>
          <p:nvPr/>
        </p:nvSpPr>
        <p:spPr>
          <a:xfrm>
            <a:off x="484200" y="1752480"/>
            <a:ext cx="44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dređivanje volumena kamen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5" descr=""/>
          <p:cNvPicPr/>
          <p:nvPr/>
        </p:nvPicPr>
        <p:blipFill>
          <a:blip r:embed="rId1"/>
          <a:stretch/>
        </p:blipFill>
        <p:spPr>
          <a:xfrm>
            <a:off x="1752480" y="2514600"/>
            <a:ext cx="2686320" cy="2357280"/>
          </a:xfrm>
          <a:prstGeom prst="rect">
            <a:avLst/>
          </a:prstGeom>
          <a:ln w="0">
            <a:noFill/>
          </a:ln>
        </p:spPr>
      </p:pic>
      <p:sp>
        <p:nvSpPr>
          <p:cNvPr id="550" name="TextBox 6"/>
          <p:cNvSpPr/>
          <p:nvPr/>
        </p:nvSpPr>
        <p:spPr>
          <a:xfrm>
            <a:off x="2138760" y="5029200"/>
            <a:ext cx="1761120" cy="520560"/>
          </a:xfrm>
          <a:prstGeom prst="rect">
            <a:avLst/>
          </a:prstGeom>
          <a:solidFill>
            <a:srgbClr val="dce6f2"/>
          </a:solidFill>
          <a:ln w="93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V = V</a:t>
            </a:r>
            <a:r>
              <a:rPr b="0" i="1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- V</a:t>
            </a:r>
            <a:r>
              <a:rPr b="0" i="1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7"/>
          <p:cNvSpPr/>
          <p:nvPr/>
        </p:nvSpPr>
        <p:spPr>
          <a:xfrm>
            <a:off x="5267520" y="2666880"/>
            <a:ext cx="2626560" cy="1648440"/>
          </a:xfrm>
          <a:prstGeom prst="rect">
            <a:avLst/>
          </a:prstGeom>
          <a:solidFill>
            <a:srgbClr val="dce6f2"/>
          </a:solidFill>
          <a:ln w="93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kamen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= V</a:t>
            </a:r>
            <a:r>
              <a:rPr b="0" i="1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– V</a:t>
            </a:r>
            <a:r>
              <a:rPr b="0" i="1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kamen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0 cm³ - 30 cm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kam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10 cm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7"/>
          <p:cNvSpPr/>
          <p:nvPr/>
        </p:nvSpPr>
        <p:spPr>
          <a:xfrm>
            <a:off x="1373040" y="335268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8"/>
          <p:cNvSpPr/>
          <p:nvPr/>
        </p:nvSpPr>
        <p:spPr>
          <a:xfrm>
            <a:off x="2973240" y="304812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Slika 2" descr=""/>
          <p:cNvPicPr/>
          <p:nvPr/>
        </p:nvPicPr>
        <p:blipFill>
          <a:blip r:embed="rId2"/>
          <a:stretch/>
        </p:blipFill>
        <p:spPr>
          <a:xfrm>
            <a:off x="395280" y="973080"/>
            <a:ext cx="135720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9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1219320" cy="372960"/>
          </a:xfrm>
          <a:prstGeom prst="rect">
            <a:avLst/>
          </a:prstGeom>
          <a:ln w="0">
            <a:noFill/>
          </a:ln>
        </p:spPr>
      </p:pic>
      <p:sp>
        <p:nvSpPr>
          <p:cNvPr id="556" name="TextBox 2"/>
          <p:cNvSpPr/>
          <p:nvPr/>
        </p:nvSpPr>
        <p:spPr>
          <a:xfrm>
            <a:off x="228600" y="19810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zmjeri koliko zraka izdahneš jednim izdisaj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5" descr=""/>
          <p:cNvPicPr/>
          <p:nvPr/>
        </p:nvPicPr>
        <p:blipFill>
          <a:blip r:embed="rId2"/>
          <a:stretch/>
        </p:blipFill>
        <p:spPr>
          <a:xfrm>
            <a:off x="4495680" y="2743200"/>
            <a:ext cx="230040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Box 3"/>
          <p:cNvSpPr/>
          <p:nvPr/>
        </p:nvSpPr>
        <p:spPr>
          <a:xfrm>
            <a:off x="291960" y="1676520"/>
            <a:ext cx="748080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Što je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volume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tijel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Nabroji veće i manje mjerne jedinice za volum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Što je litr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Čemu služi menzur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Kako se određuje volumen nepravilnih tijel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Izračunajte volumen kutije visoke 6dm ako je njezin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duljina 54cm,a širina 285m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7.  S pomoću menzure odredite volumen narukvi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Slika 2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34005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3" descr=""/>
          <p:cNvPicPr/>
          <p:nvPr/>
        </p:nvPicPr>
        <p:blipFill>
          <a:blip r:embed="rId1"/>
          <a:srcRect l="0" t="0" r="59634" b="0"/>
          <a:stretch/>
        </p:blipFill>
        <p:spPr>
          <a:xfrm>
            <a:off x="304920" y="1143000"/>
            <a:ext cx="2971800" cy="380880"/>
          </a:xfrm>
          <a:prstGeom prst="rect">
            <a:avLst/>
          </a:prstGeom>
          <a:ln w="0">
            <a:noFill/>
          </a:ln>
        </p:spPr>
      </p:pic>
      <p:sp>
        <p:nvSpPr>
          <p:cNvPr id="518" name="TextBox 4"/>
          <p:cNvSpPr/>
          <p:nvPr/>
        </p:nvSpPr>
        <p:spPr>
          <a:xfrm>
            <a:off x="609480" y="1828800"/>
            <a:ext cx="838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ako iskazujemo količinu kupljenog soka ili mlijeka, a kako potrošenu količinu vode u kućanstv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6" descr="menzure"/>
          <p:cNvPicPr/>
          <p:nvPr/>
        </p:nvPicPr>
        <p:blipFill>
          <a:blip r:embed="rId2"/>
          <a:stretch/>
        </p:blipFill>
        <p:spPr>
          <a:xfrm>
            <a:off x="5943600" y="2666880"/>
            <a:ext cx="2523960" cy="252432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9" descr="water-bottle"/>
          <p:cNvPicPr/>
          <p:nvPr/>
        </p:nvPicPr>
        <p:blipFill>
          <a:blip r:embed="rId3"/>
          <a:stretch/>
        </p:blipFill>
        <p:spPr>
          <a:xfrm>
            <a:off x="2666880" y="365760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7" descr="volumen2"/>
          <p:cNvPicPr/>
          <p:nvPr/>
        </p:nvPicPr>
        <p:blipFill>
          <a:blip r:embed="rId4"/>
          <a:stretch/>
        </p:blipFill>
        <p:spPr>
          <a:xfrm>
            <a:off x="4267080" y="411480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0" descr="tetrapak2"/>
          <p:cNvPicPr/>
          <p:nvPr/>
        </p:nvPicPr>
        <p:blipFill>
          <a:blip r:embed="rId5"/>
          <a:stretch/>
        </p:blipFill>
        <p:spPr>
          <a:xfrm>
            <a:off x="0" y="3724200"/>
            <a:ext cx="3276720" cy="1670040"/>
          </a:xfrm>
          <a:prstGeom prst="rect">
            <a:avLst/>
          </a:prstGeom>
          <a:ln w="0">
            <a:noFill/>
          </a:ln>
        </p:spPr>
      </p:pic>
      <p:sp>
        <p:nvSpPr>
          <p:cNvPr id="523" name="Text Box 11"/>
          <p:cNvSpPr/>
          <p:nvPr/>
        </p:nvSpPr>
        <p:spPr>
          <a:xfrm>
            <a:off x="4495680" y="556272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vodomj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c3324"/>
                </a:solidFill>
                <a:latin typeface="Arial"/>
                <a:ea typeface="Arial"/>
              </a:rPr>
              <a:t>Volumen tijel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214200" y="1571400"/>
            <a:ext cx="822960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Volumen ili obuj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Veličina prostor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oju neko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ijelo zauzi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znaka  volumena  </a:t>
            </a:r>
            <a:r>
              <a:rPr b="1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snovna mjerna j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edinica volume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u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čni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et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znak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6" name="Picture 3" descr=""/>
          <p:cNvPicPr/>
          <p:nvPr/>
        </p:nvPicPr>
        <p:blipFill>
          <a:blip r:embed="rId1"/>
          <a:stretch/>
        </p:blipFill>
        <p:spPr>
          <a:xfrm>
            <a:off x="5867280" y="3276720"/>
            <a:ext cx="2633760" cy="2028600"/>
          </a:xfrm>
          <a:prstGeom prst="rect">
            <a:avLst/>
          </a:prstGeom>
          <a:ln w="0">
            <a:noFill/>
          </a:ln>
        </p:spPr>
      </p:pic>
      <p:sp>
        <p:nvSpPr>
          <p:cNvPr id="527" name="TextBox 6"/>
          <p:cNvSpPr/>
          <p:nvPr/>
        </p:nvSpPr>
        <p:spPr>
          <a:xfrm>
            <a:off x="6786720" y="5410080"/>
            <a:ext cx="20091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Kub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čni 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metar m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240" y="838080"/>
            <a:ext cx="67057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3324"/>
                </a:solidFill>
                <a:latin typeface="Arial"/>
                <a:ea typeface="Arial"/>
              </a:rPr>
              <a:t>Manje jedinice volumena s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Content Placeholder 4"/>
          <p:cNvSpPr/>
          <p:nvPr/>
        </p:nvSpPr>
        <p:spPr>
          <a:xfrm>
            <a:off x="428760" y="3286080"/>
            <a:ext cx="822960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7"/>
          <p:cNvSpPr/>
          <p:nvPr/>
        </p:nvSpPr>
        <p:spPr>
          <a:xfrm>
            <a:off x="304920" y="1523880"/>
            <a:ext cx="412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ubični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decimet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dm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ubičn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centimet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cm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ubičn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milimet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m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2" descr=""/>
          <p:cNvPicPr/>
          <p:nvPr/>
        </p:nvPicPr>
        <p:blipFill>
          <a:blip r:embed="rId1"/>
          <a:stretch/>
        </p:blipFill>
        <p:spPr>
          <a:xfrm>
            <a:off x="1295280" y="3581280"/>
            <a:ext cx="6858000" cy="1866960"/>
          </a:xfrm>
          <a:prstGeom prst="rect">
            <a:avLst/>
          </a:prstGeom>
          <a:ln w="9360">
            <a:solidFill>
              <a:srgbClr val="d9969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457200" y="190476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olumen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ocke i kvadra računa se kao umnožak duljina njihovih bridov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3" name="Picture 2" descr=""/>
          <p:cNvPicPr/>
          <p:nvPr/>
        </p:nvPicPr>
        <p:blipFill>
          <a:blip r:embed="rId1"/>
          <a:stretch/>
        </p:blipFill>
        <p:spPr>
          <a:xfrm>
            <a:off x="1219320" y="3809880"/>
            <a:ext cx="6686280" cy="209556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229600" cy="8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3324"/>
                </a:solidFill>
                <a:latin typeface="Arial"/>
                <a:ea typeface="Arial"/>
              </a:rPr>
              <a:t>Volumen</a:t>
            </a:r>
            <a:r>
              <a:rPr b="0" lang="hr-HR" sz="3200" spc="-1" strike="noStrike">
                <a:solidFill>
                  <a:srgbClr val="fc3324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c3324"/>
                </a:solidFill>
                <a:latin typeface="Arial"/>
                <a:ea typeface="Arial"/>
              </a:rPr>
              <a:t>tijela pravilna obl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0880" y="99072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Volumen tijela oblika kvadra ili valjka računamo kao umnožak baze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A i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njihove vis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2971800" y="2971800"/>
            <a:ext cx="3168720" cy="1554120"/>
          </a:xfrm>
          <a:prstGeom prst="rect">
            <a:avLst/>
          </a:prstGeom>
          <a:ln w="0">
            <a:noFill/>
          </a:ln>
        </p:spPr>
      </p:pic>
      <p:sp>
        <p:nvSpPr>
          <p:cNvPr id="537" name="TextBox 3"/>
          <p:cNvSpPr/>
          <p:nvPr/>
        </p:nvSpPr>
        <p:spPr>
          <a:xfrm>
            <a:off x="3657600" y="5105520"/>
            <a:ext cx="1676520" cy="459720"/>
          </a:xfrm>
          <a:prstGeom prst="rect">
            <a:avLst/>
          </a:prstGeom>
          <a:noFill/>
          <a:ln w="9360">
            <a:solidFill>
              <a:srgbClr val="f798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 =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380880" y="1676160"/>
            <a:ext cx="4191120" cy="6858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oliki je volumen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kvarij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Content Placeholder 7"/>
          <p:cNvSpPr/>
          <p:nvPr/>
        </p:nvSpPr>
        <p:spPr>
          <a:xfrm>
            <a:off x="4724280" y="2209680"/>
            <a:ext cx="3471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ješenj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 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3 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= a·b·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 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·3 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6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2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3243240" cy="2361960"/>
          </a:xfrm>
          <a:prstGeom prst="rect">
            <a:avLst/>
          </a:prstGeom>
          <a:ln w="0">
            <a:noFill/>
          </a:ln>
        </p:spPr>
      </p:pic>
      <p:pic>
        <p:nvPicPr>
          <p:cNvPr id="541" name="Slika 2" descr=""/>
          <p:cNvPicPr/>
          <p:nvPr/>
        </p:nvPicPr>
        <p:blipFill>
          <a:blip r:embed="rId2"/>
          <a:stretch/>
        </p:blipFill>
        <p:spPr>
          <a:xfrm>
            <a:off x="380880" y="1135080"/>
            <a:ext cx="101628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694800"/>
            <a:ext cx="8229600" cy="8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Volumen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tekuć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Box 4"/>
          <p:cNvSpPr/>
          <p:nvPr/>
        </p:nvSpPr>
        <p:spPr>
          <a:xfrm>
            <a:off x="429480" y="2000160"/>
            <a:ext cx="5741640" cy="459720"/>
          </a:xfrm>
          <a:prstGeom prst="rect">
            <a:avLst/>
          </a:prstGeom>
          <a:solidFill>
            <a:srgbClr val="fdeada"/>
          </a:solidFill>
          <a:ln w="93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olumen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d 1 dm³ zove 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t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 zna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7"/>
          <p:cNvSpPr/>
          <p:nvPr/>
        </p:nvSpPr>
        <p:spPr>
          <a:xfrm>
            <a:off x="621000" y="2743200"/>
            <a:ext cx="4347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je jedinice od litre s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tar – dL:   1 L = 10 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tar – mL:   1 L = 1 000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ća jedinica od litre 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k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tar – hL:  1 hL = 100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2" descr=""/>
          <p:cNvPicPr/>
          <p:nvPr/>
        </p:nvPicPr>
        <p:blipFill>
          <a:blip r:embed="rId1"/>
          <a:stretch/>
        </p:blipFill>
        <p:spPr>
          <a:xfrm>
            <a:off x="6095880" y="3276720"/>
            <a:ext cx="1828800" cy="995400"/>
          </a:xfrm>
          <a:prstGeom prst="rect">
            <a:avLst/>
          </a:prstGeom>
          <a:ln w="9360">
            <a:solidFill>
              <a:srgbClr val="f7986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Box 4"/>
          <p:cNvSpPr/>
          <p:nvPr/>
        </p:nvSpPr>
        <p:spPr>
          <a:xfrm>
            <a:off x="2819520" y="1600200"/>
            <a:ext cx="6675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olumen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kućine mjerimo menzur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nzu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klena posuda na kojoj je ispis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jerna ljestvica za volumen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(najčešće u m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6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2057400" cy="40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1:38:40Z</dcterms:created>
  <dc:creator>Sandra</dc:creator>
  <dc:description/>
  <dc:language>en-US</dc:language>
  <cp:lastModifiedBy>Tomislav Dumančić</cp:lastModifiedBy>
  <dcterms:modified xsi:type="dcterms:W3CDTF">2019-09-17T07:54:07Z</dcterms:modified>
  <cp:revision>57</cp:revision>
  <dc:subject/>
  <dc:title>Slide 1</dc:title>
</cp:coreProperties>
</file>